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173-5C4D-44BA-8192-D3C1A201BF9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9F5-D314-48AD-92BA-DA111FF119A0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898-69AE-41F3-965A-1ED82A7CABE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40C-A139-48EB-AB51-56048E10E31D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9DF-2614-45EC-B94B-C1CA9F7C9079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A26-C201-4B26-9F49-320860615617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58D-4FCB-44C8-B182-43E8185AAEDD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D861-A319-424C-AAE6-A40E1DBBF61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686F-A804-4DCB-A557-44A2C743ADF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42E-F1D3-45A4-A211-CB57853E02AD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96DC-24FA-4A95-9B4F-49BE365132D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5F0-F3BE-4D24-A8FE-200E5A6E97E1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026-B9FA-4641-9743-DE519E476190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65A-717B-4ED3-A629-DE1A18E2FD7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D5F-9C48-4549-9634-6447E710B307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318A-7E1B-4DF6-982B-5555176A9573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098-CCEF-4E1D-9CE8-32F2D149B31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394-8EE5-441E-A978-7309A462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6A3-C534-47B4-A7B7-07AC9476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337-3644-4D7D-83E8-557E55E6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D75-6414-4D06-B7B9-DA906785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56A-6AB8-4C15-A483-DE2D3EA1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D73-0A76-40DE-BD76-7D3F340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FF3-630A-4DC1-8CB9-2A5C899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102-70BC-421E-A9A3-F224312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FF1-93C2-4E86-98A6-07F7451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B85-DFFA-484D-8513-9EBE8D6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DC1-EB2C-4CC6-B4DC-4B93A8C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D79-D6F3-4C49-90C2-4F507E4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8E1F-D23E-4297-B5F5-29D75A5B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mall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5 Rebirth of Slick.mp3" descr=""/>
          <p:cNvPicPr/>
          <p:nvPr/>
        </p:nvPicPr>
        <p:blipFill>
          <a:blip r:embed="rId2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Video Montage.mpg" descr=""/>
          <p:cNvPicPr/>
          <p:nvPr/>
        </p:nvPicPr>
        <p:blipFill>
          <a:blip r:embed="rId1"/>
          <a:srcRect l="0" t="4226" r="0" b="41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dark alley"/>
          <p:cNvPicPr/>
          <p:nvPr/>
        </p:nvPicPr>
        <p:blipFill>
          <a:blip r:embed="rId1"/>
          <a:srcRect l="0" t="0" r="11510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65" name="6 First Love.mp3" descr=""/>
          <p:cNvPicPr/>
          <p:nvPr/>
        </p:nvPicPr>
        <p:blipFill>
          <a:blip r:embed="rId2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welcomeback"/>
          <p:cNvPicPr/>
          <p:nvPr/>
        </p:nvPicPr>
        <p:blipFill>
          <a:blip r:embed="rId1"/>
          <a:srcRect l="0" t="2629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Celebrate"/>
          <p:cNvPicPr/>
          <p:nvPr/>
        </p:nvPicPr>
        <p:blipFill>
          <a:blip r:embed="rId1"/>
          <a:srcRect l="0" t="0" r="0" b="16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7 Looking for You.mp3" descr=""/>
          <p:cNvPicPr/>
          <p:nvPr/>
        </p:nvPicPr>
        <p:blipFill>
          <a:blip r:embed="rId2"/>
          <a:stretch/>
        </p:blipFill>
        <p:spPr>
          <a:xfrm>
            <a:off x="9468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667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Life Mag_Fathers House Advert.jpg"/>
          <p:cNvPicPr/>
          <p:nvPr/>
        </p:nvPicPr>
        <p:blipFill>
          <a:blip r:embed="rId1"/>
          <a:srcRect l="8278" t="0" r="0" b="1556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Life Mag_Fathers House Advert.jpg"/>
          <p:cNvPicPr/>
          <p:nvPr/>
        </p:nvPicPr>
        <p:blipFill>
          <a:blip r:embed="rId1"/>
          <a:srcRect l="8278" t="0" r="0" b="1556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79417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1 Sorotoni.mp3" descr=""/>
          <p:cNvPicPr/>
          <p:nvPr/>
        </p:nvPicPr>
        <p:blipFill>
          <a:blip r:embed="rId2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2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nterior_09"/>
          <p:cNvPicPr/>
          <p:nvPr/>
        </p:nvPicPr>
        <p:blipFill>
          <a:blip r:embed="rId1"/>
          <a:srcRect l="0" t="14511" r="0" b="103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shebeen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2 Wena ng'hamba nawe.mp3" descr=""/>
          <p:cNvPicPr/>
          <p:nvPr/>
        </p:nvPicPr>
        <p:blipFill>
          <a:blip r:embed="rId2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898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 Wena ng'hamba nawe Edited.mp3" descr=""/>
          <p:cNvPicPr/>
          <p:nvPr/>
        </p:nvPicPr>
        <p:blipFill>
          <a:blip r:embed="rId1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shebeen_ne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619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URUGUAY-_La_bourgogne__French_Restaurant"/>
          <p:cNvPicPr/>
          <p:nvPr/>
        </p:nvPicPr>
        <p:blipFill>
          <a:blip r:embed="rId1"/>
          <a:srcRect l="0" t="1609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7" name="3 Hey There Delilah.mp3" descr=""/>
          <p:cNvPicPr/>
          <p:nvPr/>
        </p:nvPicPr>
        <p:blipFill>
          <a:blip r:embed="rId2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302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URUGUAY-_La_bourgogne__French_Restaurant"/>
          <p:cNvPicPr/>
          <p:nvPr/>
        </p:nvPicPr>
        <p:blipFill>
          <a:blip r:embed="rId1"/>
          <a:srcRect l="0" t="1609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ll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4 Mika.mp3" descr=""/>
          <p:cNvPicPr/>
          <p:nvPr/>
        </p:nvPicPr>
        <p:blipFill>
          <a:blip r:embed="rId2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484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6:32:37Z</dcterms:created>
  <dc:creator>Mark Tittley</dc:creator>
  <dc:description/>
  <dc:language>en-US</dc:language>
  <cp:lastModifiedBy>Mark Tittley</cp:lastModifiedBy>
  <dcterms:modified xsi:type="dcterms:W3CDTF">2009-09-24T11:01:55Z</dcterms:modified>
  <cp:revision>42</cp:revision>
  <dc:subject/>
  <dc:title>Slide 1</dc:title>
</cp:coreProperties>
</file>